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4979-A32E-49E0-B9D0-95E6C24D4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3043-64F4-4E38-BC0C-D6B31C415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02D5-B27D-4443-8FFF-2E7B7B43B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B378-48F9-4091-8130-FF5ACFF12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65C8E-F3B0-454B-918C-8347D80E9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DCF1F-D721-49FC-9F31-520170280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C3C13-A7B9-4437-960A-0C079E5BF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4E1B5-1438-451F-A027-3CCFBDCD2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234D4-3AB6-47B8-A849-7581D542D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FEA81-1FD1-4D59-8EC8-1A49CF8F6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91A01-601E-45B9-A996-646C7986B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42DD-DA90-4F7A-AA28-D1C63599A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2899C-6CE8-490F-A632-22AB38325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12D7A-550C-4DD1-BDCE-FC46BADC2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86D5F-F99B-4B1D-A205-81A27B4C8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29AFE-AEE7-4831-BDD8-6E8060BD1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C45BB-4D0F-4A7A-8672-9D068BEE6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82AA-837B-43CF-BFCA-8C4D681A5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612D-4387-4DCB-8826-C81083FC4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E3F7-5CEC-411C-B8BA-20C5A5689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151D-54CD-4D9F-94CE-7C8F1F0C5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B270-CC19-4DD6-AB12-876994766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D284-AEDD-4B1F-9EA4-B9879BFBE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6288-A924-408D-8B07-2E32C5F3B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C411A-E5CE-4A4D-9D2A-D4305F7D533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B6C2A-4B6B-406A-A0D5-12568C0F93C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Hxx2KcPWWZg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Introduction to the Ipad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ldane School Distri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l 2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voiding “The gadget effect”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6666"/>
                </a:solidFill>
                <a:uFillTx/>
                <a:latin typeface="Arial"/>
                <a:hlinkClick r:id="rId1"/>
              </a:rPr>
              <a:t>MS Pa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it technology for “technology’s sake?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tilize this mental chec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 it make something I currently do easier, better, more efficient, or impactfu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 it help us engage in a totally new way that can be shown to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dvance learn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vious benefits are:  engaging, personalized, collaborative, visual/kinesthetic, “hands-on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Key Ipad Concepts:</a:t>
            </a:r>
            <a:br>
              <a:rPr sz="3800"/>
            </a:b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“paradigm shifters”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pad was intended to be a companion device, not a content creation device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es this limit or improve its functionalit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is no resident file structure within an Ip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es it mean to be in “The Age of Google?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es this device potentially change the appearance of education as we know 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genda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up:  Wifi, Email, “find my Ipad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view &amp; tour:  settings, navigation, interface, Web-browser, double-tap, finger pinch, multi-task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note de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s discussion/an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work vs. Documents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werteacher Gradebook Ap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cavenger Hunt Activity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ke and email a picture to yourse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ke a screenshot of a website that explains how the Ipad multita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he NYTimes free app to find out what today’s headline 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 your home screen wallpa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store: what are the top three most downloaded Free apps for the category educ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brief Facetime chat with your part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dependent Work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nts 2 hours toward 7.5 hour require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n annotated app list, reviewing at least 10 ap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: Name, brief overview, cost, practical description of how you envision using it in the classroom – focus on the two qualifier questions from “mental check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purchased apps should every faculty/student ha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here a particular app (specific to your subject) that you would like the district to purchase for yo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e – delivered by E-mail (1 week from today) 9/21/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4T14:43:05Z</dcterms:created>
  <dc:creator>Haldane Central School District</dc:creator>
  <dc:description/>
  <dc:language>en-US</dc:language>
  <cp:lastModifiedBy>Haldane Central School District</cp:lastModifiedBy>
  <dcterms:modified xsi:type="dcterms:W3CDTF">2011-09-14T18:49:15Z</dcterms:modified>
  <cp:revision>9</cp:revision>
  <dc:subject/>
  <dc:title>Introduction to the Ipad</dc:title>
</cp:coreProperties>
</file>